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B5B65-7CA2-4140-A5E9-139EF9750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4BC26-4B76-4DBC-B8BC-050E5811F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45F04-C189-4B47-9101-853FC34B0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D2377-FFBD-48DC-8CD4-0B571950B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7924D6-5FF7-4480-9234-4E2B2D9D6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971B8-8D0D-4B48-BBC5-505486556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B07CE-8BFA-439A-961E-FB6EA277F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66524-442F-4735-9211-BF8E2192B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79B88-9A33-4304-A89F-9DB7E1BF7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01875-997B-4F91-B8D7-7C24AD183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3D672-55D0-40A2-BA39-336FB270F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20520-1E0C-44CA-9060-CFB14C589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64280-C146-4A06-846E-59AF2FEC9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1456E-01BE-4DEB-AE7B-47BDD564E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A0066-77F1-4D95-BFAD-99A29C5A6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3233B-DB09-460C-A5FC-1B8106803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EB697-2E9D-4444-B335-8C9F71397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19BC9-9578-4F3D-9342-A8726F56C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FE43D-D7D2-455F-897F-7A2A33527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A5C40-77EA-4A81-B7D4-167CBEE08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5A5B9-25CE-4149-BA46-596CCD34C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87670-AA82-41CB-8854-ACAE4B746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51F12-747E-4D1C-B40B-09A04FDC1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ECF94-2E98-4C1E-AE05-582B29969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3AF7-93D6-44E0-BBE6-928B7FB4029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A9E6-C373-4C76-BB18-1A3564B961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iology.clc.uc.edu/courses/bio104/protein.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WordArt 4"/>
          <p:cNvSpPr txBox="1"/>
          <p:nvPr/>
        </p:nvSpPr>
        <p:spPr>
          <a:xfrm>
            <a:off x="228600" y="838080"/>
            <a:ext cx="868680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70c0"/>
                </a:solidFill>
                <a:latin typeface="Cooper Black"/>
              </a:rPr>
              <a:t>Biological Science</a:t>
            </a:r>
            <a:endParaRPr b="0" lang="en-US" sz="1800" spc="1" strike="noStrike">
              <a:ln w="28440">
                <a:solidFill>
                  <a:srgbClr val="000000"/>
                </a:solidFill>
                <a:miter/>
              </a:ln>
              <a:solidFill>
                <a:srgbClr val="0070c0"/>
              </a:solidFill>
              <a:latin typeface="Cooper Black"/>
              <a:ea typeface="Cooper Black"/>
            </a:endParaRPr>
          </a:p>
        </p:txBody>
      </p:sp>
      <p:pic>
        <p:nvPicPr>
          <p:cNvPr id="82" name="Picture 16" descr="scistartlogo2"/>
          <p:cNvPicPr/>
          <p:nvPr/>
        </p:nvPicPr>
        <p:blipFill>
          <a:blip r:embed="rId2"/>
          <a:stretch/>
        </p:blipFill>
        <p:spPr>
          <a:xfrm>
            <a:off x="6629400" y="152280"/>
            <a:ext cx="2381400" cy="447840"/>
          </a:xfrm>
          <a:prstGeom prst="rect">
            <a:avLst/>
          </a:prstGeom>
          <a:ln w="0">
            <a:noFill/>
          </a:ln>
        </p:spPr>
      </p:pic>
      <p:sp>
        <p:nvSpPr>
          <p:cNvPr id="83" name="WordArt 17"/>
          <p:cNvSpPr txBox="1"/>
          <p:nvPr/>
        </p:nvSpPr>
        <p:spPr>
          <a:xfrm>
            <a:off x="4114800" y="3200400"/>
            <a:ext cx="449568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2892ac"/>
                </a:solidFill>
                <a:latin typeface="Cooper Black"/>
              </a:rPr>
              <a:t>Biochemistry</a:t>
            </a:r>
            <a:endParaRPr b="0" lang="en-US" sz="1800" spc="1" strike="noStrike">
              <a:ln w="28440">
                <a:solidFill>
                  <a:srgbClr val="000000"/>
                </a:solidFill>
                <a:miter/>
              </a:ln>
              <a:solidFill>
                <a:srgbClr val="2892ac"/>
              </a:solidFill>
              <a:latin typeface="Cooper Black"/>
              <a:ea typeface="Cooper Black"/>
            </a:endParaRPr>
          </a:p>
        </p:txBody>
      </p:sp>
      <p:pic>
        <p:nvPicPr>
          <p:cNvPr id="84" name="Picture 8" descr="C:\Users\Liz\AppData\Local\Microsoft\Windows\Temporary Internet Files\Content.IE5\CPHVRLKO\MCj02296450000[1].wmf"/>
          <p:cNvPicPr/>
          <p:nvPr/>
        </p:nvPicPr>
        <p:blipFill>
          <a:blip r:embed="rId3"/>
          <a:stretch/>
        </p:blipFill>
        <p:spPr>
          <a:xfrm>
            <a:off x="685800" y="3276720"/>
            <a:ext cx="2590920" cy="269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re are only 20 different common amino acids, why is it possible to have thousands of different proteins?  Why do you think it is important to have so many different kinds of proteins?  </a:t>
            </a:r>
            <a:endParaRPr b="0" lang="en-US" sz="3200" spc="-1" strike="noStrike">
              <a:solidFill>
                <a:srgbClr val="ffffff"/>
              </a:solidFill>
              <a:latin typeface="Tahoma"/>
            </a:endParaRPr>
          </a:p>
        </p:txBody>
      </p:sp>
      <p:sp>
        <p:nvSpPr>
          <p:cNvPr id="87" name="">
            <a:hlinkClick r:id="rId2"/>
          </p:cNvPr>
          <p:cNvSpPr/>
          <p:nvPr/>
        </p:nvSpPr>
        <p:spPr>
          <a:xfrm>
            <a:off x="3809880" y="4876920"/>
            <a:ext cx="1143000" cy="990360"/>
          </a:xfrm>
          <a:custGeom>
            <a:avLst/>
            <a:gdLst>
              <a:gd name="textAreaLeft" fmla="*/ 64080 w 1143000"/>
              <a:gd name="textAreaRight" fmla="*/ 1078920 w 1143000"/>
              <a:gd name="textAreaTop" fmla="*/ 64080 h 990360"/>
              <a:gd name="textAreaBottom" fmla="*/ 926280 h 990360"/>
            </a:gdLst>
            <a:ahLst/>
            <a:rect l="textAreaLeft" t="textAreaTop" r="textAreaRight" b="textAreaBottom"/>
            <a:pathLst>
              <a:path w="24928" h="21600">
                <a:moveTo>
                  <a:pt x="0" y="0"/>
                </a:moveTo>
                <a:lnTo>
                  <a:pt x="24928" y="0"/>
                </a:lnTo>
                <a:lnTo>
                  <a:pt x="24928" y="21600"/>
                </a:lnTo>
                <a:lnTo>
                  <a:pt x="0" y="21600"/>
                </a:lnTo>
                <a:close/>
              </a:path>
              <a:path fill="lightenLess" w="24928" h="21600">
                <a:moveTo>
                  <a:pt x="0" y="0"/>
                </a:moveTo>
                <a:lnTo>
                  <a:pt x="24928" y="0"/>
                </a:lnTo>
                <a:lnTo>
                  <a:pt x="23528" y="1400"/>
                </a:lnTo>
                <a:lnTo>
                  <a:pt x="1400" y="1400"/>
                </a:lnTo>
                <a:close/>
              </a:path>
              <a:path fill="darken" w="24928" h="21600">
                <a:moveTo>
                  <a:pt x="24928" y="0"/>
                </a:moveTo>
                <a:lnTo>
                  <a:pt x="24928" y="21600"/>
                </a:lnTo>
                <a:lnTo>
                  <a:pt x="23528" y="20200"/>
                </a:lnTo>
                <a:lnTo>
                  <a:pt x="23528" y="1400"/>
                </a:lnTo>
                <a:close/>
              </a:path>
              <a:path fill="darkenLess" w="24928" h="21600">
                <a:moveTo>
                  <a:pt x="24928" y="21600"/>
                </a:moveTo>
                <a:lnTo>
                  <a:pt x="0" y="21600"/>
                </a:lnTo>
                <a:lnTo>
                  <a:pt x="1400" y="20200"/>
                </a:lnTo>
                <a:lnTo>
                  <a:pt x="23528" y="20200"/>
                </a:lnTo>
                <a:close/>
              </a:path>
              <a:path fill="lighten" w="24928" h="21600">
                <a:moveTo>
                  <a:pt x="0" y="21600"/>
                </a:moveTo>
                <a:lnTo>
                  <a:pt x="0" y="0"/>
                </a:lnTo>
                <a:lnTo>
                  <a:pt x="1400" y="1400"/>
                </a:lnTo>
                <a:lnTo>
                  <a:pt x="1400" y="20200"/>
                </a:lnTo>
                <a:close/>
              </a:path>
              <a:path fill="darken" w="24928" h="21600">
                <a:moveTo>
                  <a:pt x="12464" y="3794"/>
                </a:moveTo>
                <a:arcTo wR="7006" hR="7006" stAng="16200000" swAng="-5400000"/>
                <a:arcTo wR="7006" hR="7006" stAng="10800000" swAng="-5400000"/>
                <a:arcTo wR="7006" hR="7006" stAng="5400000" swAng="-5400000"/>
                <a:arcTo wR="7006" hR="7006" stAng="0" swAng="-5400000"/>
                <a:close/>
              </a:path>
              <a:path fill="lighten" w="24928" h="21600">
                <a:moveTo>
                  <a:pt x="12464" y="4168"/>
                </a:moveTo>
                <a:arcTo wR="1793" hR="1793" stAng="16200000" swAng="-5400000"/>
                <a:arcTo wR="1793" hR="1793" stAng="10800000" swAng="-5400000"/>
                <a:arcTo wR="1793" hR="1793" stAng="5400000" swAng="-5400000"/>
                <a:arcTo wR="1793" hR="1793" stAng="0" swAng="-5400000"/>
                <a:close/>
              </a:path>
              <a:path fill="lighten" w="24928" h="21600">
                <a:moveTo>
                  <a:pt x="9888" y="8224"/>
                </a:moveTo>
                <a:lnTo>
                  <a:pt x="13752" y="8224"/>
                </a:lnTo>
                <a:lnTo>
                  <a:pt x="13752" y="15221"/>
                </a:lnTo>
                <a:lnTo>
                  <a:pt x="15040" y="15221"/>
                </a:lnTo>
                <a:lnTo>
                  <a:pt x="15040" y="16144"/>
                </a:lnTo>
                <a:lnTo>
                  <a:pt x="9888" y="16144"/>
                </a:lnTo>
                <a:lnTo>
                  <a:pt x="9888" y="15221"/>
                </a:lnTo>
                <a:lnTo>
                  <a:pt x="11176" y="15221"/>
                </a:lnTo>
                <a:lnTo>
                  <a:pt x="11176" y="9129"/>
                </a:lnTo>
                <a:lnTo>
                  <a:pt x="9888" y="9129"/>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1T13:29:02Z</dcterms:created>
  <dc:creator>PritchaJ</dc:creator>
  <dc:description/>
  <dc:language>en-US</dc:language>
  <cp:lastModifiedBy>PritchaJ</cp:lastModifiedBy>
  <dcterms:modified xsi:type="dcterms:W3CDTF">2011-06-01T13:30:43Z</dcterms:modified>
  <cp:revision>1</cp:revision>
  <dc:subject/>
  <dc:title>Slide 1</dc:title>
</cp:coreProperties>
</file>